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0F632-8270-4B27-9C71-1B30359428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85A31-2FA2-4C1B-B054-A64E1084BA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t-E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351F6-087C-43D0-921D-F2C5BE59AB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t-E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512C7-785E-4FEA-8D05-F76376137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444E4-4095-42F8-B329-36C7840F1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1EABA-1241-4FCB-B357-7A05A2C2F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18C46-5F84-49F2-A5D0-52B5D1CFF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CA27B-EF63-4CF1-9709-30E6F47DD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891F0-7873-4E7C-9F20-A17B44E51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59654-C70C-44A1-9148-78BB4C6AC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9F27C-1ADA-4C0F-8DF3-87F8AAB9A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0B56E-C4BF-45CF-A615-2CD7D6B07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6F185-3949-4E9C-B3F2-3D413CBBF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47931-4594-4DA3-A494-1E0FD71BE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408E9-6373-4986-8BA4-CE648024E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1B79E-0365-4CE0-8220-CC861A9462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O1.gif"/>
          <p:cNvPicPr/>
          <p:nvPr/>
        </p:nvPicPr>
        <p:blipFill>
          <a:blip r:embed="rId1"/>
          <a:stretch/>
        </p:blipFill>
        <p:spPr>
          <a:xfrm>
            <a:off x="333360" y="71280"/>
            <a:ext cx="8477280" cy="671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O2.gif"/>
          <p:cNvPicPr/>
          <p:nvPr/>
        </p:nvPicPr>
        <p:blipFill>
          <a:blip r:embed="rId1"/>
          <a:stretch/>
        </p:blipFill>
        <p:spPr>
          <a:xfrm>
            <a:off x="333360" y="71280"/>
            <a:ext cx="8477280" cy="671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7T09:25:37Z</dcterms:created>
  <dc:creator>sbuser</dc:creator>
  <dc:description/>
  <dc:language>en-US</dc:language>
  <cp:lastModifiedBy>lektor</cp:lastModifiedBy>
  <dcterms:modified xsi:type="dcterms:W3CDTF">2009-10-09T09:32:46Z</dcterms:modified>
  <cp:revision>40</cp:revision>
  <dc:subject/>
  <dc:title>Slide 1</dc:title>
</cp:coreProperties>
</file>