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4560-2187-4CEB-97EA-532AACDCA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C168-815D-416A-8F95-E559FCFA2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D7F8-BFBF-4D67-B262-DC35688E1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386-2C3D-439B-9211-F0387B8E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C4E-58F4-46D3-B6C1-6E4F3046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FF4F-8404-46FF-9608-A9BD5A79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BE9-963A-4E0A-8A23-CC19ACAD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FD6-D0C2-4B0E-88B2-93FB119F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F20-CDEE-4C0F-B61A-B36BC1ED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174D-B7AA-4E8E-98EA-DD993C6D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77C6-3EC1-46EB-AD16-74544B80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0C1-2E2F-4DF3-BB62-A88633C7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3EBE-FF6A-4BB3-8FBA-6388E062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FBDD-9438-44ED-A08C-EFFD6B5D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361E-DB8A-4B89-9345-C73A87B9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A33D-CCF6-410C-97C6-F443CBEA4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1.gif"/>
          <p:cNvPicPr/>
          <p:nvPr/>
        </p:nvPicPr>
        <p:blipFill>
          <a:blip r:embed="rId1"/>
          <a:stretch/>
        </p:blipFill>
        <p:spPr>
          <a:xfrm>
            <a:off x="333360" y="71280"/>
            <a:ext cx="847728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O2.gif"/>
          <p:cNvPicPr/>
          <p:nvPr/>
        </p:nvPicPr>
        <p:blipFill>
          <a:blip r:embed="rId1"/>
          <a:stretch/>
        </p:blipFill>
        <p:spPr>
          <a:xfrm>
            <a:off x="333360" y="71280"/>
            <a:ext cx="847728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09:25:37Z</dcterms:created>
  <dc:creator>sbuser</dc:creator>
  <dc:description/>
  <dc:language>en-US</dc:language>
  <cp:lastModifiedBy>lektor</cp:lastModifiedBy>
  <dcterms:modified xsi:type="dcterms:W3CDTF">2009-10-09T09:32:46Z</dcterms:modified>
  <cp:revision>40</cp:revision>
  <dc:subject/>
  <dc:title>Slide 1</dc:title>
</cp:coreProperties>
</file>